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7D1-9EFD-4E0C-9738-DB2FDA12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41B-A942-45B0-A3AC-CD4E1EA1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349-A4DA-4D2B-93A5-3DF6D2A0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4BC-D1D9-47AC-8807-9D0CBF92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598C-3150-4008-820E-BE863784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B895-ED4F-4DF0-865E-4D5898F9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3C3B-07B9-4764-A391-08805534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A5C4-486F-47F5-A651-FC2CF491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3A5A-0FF5-4D9E-B23D-5684EC94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D0D2-726C-4BEE-B932-CB04962D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A334-E191-45E3-AE2A-0F072B7C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529-094B-4AFC-989B-8B3023E1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F9A5-266B-4DB6-B5BB-B85C1F8F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69FD-BA07-46D5-8AB3-81B9B4B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E8D4-9B79-4142-A1A2-83698F3A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8C2E-BF12-43B8-860F-C0D0CE6A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691A-39CF-406A-B771-EBEE1257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63C9-5850-490E-977E-77ADA6C8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FABE-4865-447A-B1B1-6AA0E875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A80B-A675-4412-B205-3D3F9BAD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A575-73AB-43F5-8B4B-2CF9C802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A59B-53B4-44CB-B063-EDF79224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A3F-7953-4520-B394-514F3E45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F50C-A84D-4EA8-9298-16266309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C3826-AAA4-4CBA-9868-03BF870C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DEDE-72D5-414C-9797-AA0BF46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6F4D-12E9-4589-AF07-50694A2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896D-7D1A-4CCE-A045-349E0409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45BEF-0915-44D9-955E-1254D6B7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230C-43F7-404E-9FA6-2E846CEC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7D88-2348-4E5C-9521-5DD5F99F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4845-06C4-4143-A781-61DC602A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39C0-5756-40AC-BEDB-6695DBEE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404-AD20-4275-91F7-17A3AA2F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19F6-3ED8-49DC-8E82-FD8B962C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B907A-8304-4308-8210-4FE0D64E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F33D-95EB-4E51-BFD9-5C58380C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86685-8BD1-4310-B1F3-C499F8C2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9F4E-4332-4831-8464-4CB0BDED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5A38-0CEC-4306-9D1A-EF1DCAC9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8DEB2-DF31-483A-81C2-EF604EAF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CCF7F-A4AB-4C97-8D1D-AAF9ED86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92AB7-23BA-4CC3-B498-99DA2130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3CB-78AE-44A8-B526-377DC7D2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3E2-DA1D-4C0B-BF73-BF6318ED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995-1AAF-4528-99EB-2FBCE59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318-2B96-4DDB-8356-C660EC0D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2A5-0B9F-4DE1-A5FD-0FF0077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A6C4-20F3-4250-8371-8227DFC548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868B-9947-496E-B953-E56A1F0AA6A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2AE1-701B-4769-B969-5EA80A5F747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1BEC-4217-49C0-A6C2-652FD020FAB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«Сложение и вычитание в пределах 100.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nstantia"/>
              </a:rPr>
              <a:t>Выполнила: Сергеева Марина Сергеевн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nstantia"/>
              </a:rPr>
              <a:t>учитель начальных классов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nstantia"/>
              </a:rPr>
              <a:t>МБОУ СОШ №100 г. Краснодар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Необитаемый остр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840" y="142884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7026"/>
                </a:solidFill>
                <a:latin typeface="Constantia"/>
              </a:rPr>
              <a:t>43+7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7026"/>
                </a:solidFill>
                <a:latin typeface="Constantia"/>
              </a:rPr>
              <a:t>81-5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7026"/>
                </a:solidFill>
                <a:latin typeface="Constantia"/>
              </a:rPr>
              <a:t>68+6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7026"/>
                </a:solidFill>
                <a:latin typeface="Constantia"/>
              </a:rPr>
              <a:t>54-9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7026"/>
                </a:solidFill>
                <a:latin typeface="Constantia"/>
              </a:rPr>
              <a:t>76+5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7026"/>
                </a:solidFill>
                <a:latin typeface="Constantia"/>
              </a:rPr>
              <a:t>82-7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F:\марина\марина\ostrova_2_reference.jpg"/>
          <p:cNvPicPr/>
          <p:nvPr/>
        </p:nvPicPr>
        <p:blipFill>
          <a:blip r:embed="rId1"/>
          <a:stretch/>
        </p:blipFill>
        <p:spPr>
          <a:xfrm>
            <a:off x="2571840" y="1357200"/>
            <a:ext cx="6215040" cy="492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да на палуб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64+3-30=37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7+53-9=4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86-60+4=18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58+7-20=4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F:\марина\марина\264351_korabl_parusnik_sudno_more_nebo_1920x1200_(www.GdeFon.ru).jpg"/>
          <p:cNvPicPr/>
          <p:nvPr/>
        </p:nvPicPr>
        <p:blipFill>
          <a:blip r:embed="rId1"/>
          <a:stretch/>
        </p:blipFill>
        <p:spPr>
          <a:xfrm>
            <a:off x="3214800" y="1643040"/>
            <a:ext cx="5472000" cy="43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обинзон Круз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2" descr="F:\марина\марина\0002-002-Ostrov-Robinzona-Kruzo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Подарок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F:\марина\марина\33989_1000.jpg"/>
          <p:cNvPicPr/>
          <p:nvPr/>
        </p:nvPicPr>
        <p:blipFill>
          <a:blip r:embed="rId1"/>
          <a:stretch/>
        </p:blipFill>
        <p:spPr>
          <a:xfrm>
            <a:off x="1468440" y="1935000"/>
            <a:ext cx="6207120" cy="438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3" descr="F:\марина\марина\robinson-crusoe-2-the-cursed-pirates-screenshot5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гра « День –ночь!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5" descr="F:\марина\марина\1111.jpg"/>
          <p:cNvPicPr/>
          <p:nvPr/>
        </p:nvPicPr>
        <p:blipFill>
          <a:blip r:embed="rId1"/>
          <a:stretch/>
        </p:blipFill>
        <p:spPr>
          <a:xfrm>
            <a:off x="357120" y="1857240"/>
            <a:ext cx="3857760" cy="428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F:\марина\марина\hq-wallpapers_ru_nature_25355_1920x1200.jpg"/>
          <p:cNvPicPr/>
          <p:nvPr/>
        </p:nvPicPr>
        <p:blipFill>
          <a:blip r:embed="rId2"/>
          <a:stretch/>
        </p:blipFill>
        <p:spPr>
          <a:xfrm>
            <a:off x="4643280" y="1857240"/>
            <a:ext cx="4038840" cy="42148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857160" y="3214800"/>
            <a:ext cx="293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6 – это 8 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4 – это 6 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2 – это 5 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6357960" y="3643200"/>
            <a:ext cx="1839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5214960" y="3429000"/>
            <a:ext cx="307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 – это 9 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 – это 9 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 – это 8 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азовите ответ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0+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3+4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80+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7+9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5" descr="F:\марина\марина\2182289.jpg"/>
          <p:cNvPicPr/>
          <p:nvPr/>
        </p:nvPicPr>
        <p:blipFill>
          <a:blip r:embed="rId1"/>
          <a:stretch/>
        </p:blipFill>
        <p:spPr>
          <a:xfrm>
            <a:off x="571680" y="1785960"/>
            <a:ext cx="7737120" cy="4433760"/>
          </a:xfrm>
          <a:prstGeom prst="rect">
            <a:avLst/>
          </a:prstGeom>
          <a:ln w="0">
            <a:noFill/>
          </a:ln>
        </p:spPr>
      </p:pic>
      <p:pic>
        <p:nvPicPr>
          <p:cNvPr id="208" name="TextBox 7" descr=""/>
          <p:cNvPicPr/>
          <p:nvPr/>
        </p:nvPicPr>
        <p:blipFill>
          <a:blip r:embed="rId2"/>
          <a:stretch/>
        </p:blipFill>
        <p:spPr>
          <a:xfrm>
            <a:off x="1994040" y="2262240"/>
            <a:ext cx="4510080" cy="296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раб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4" descr="F:\марина\марина\264351_korabl_parusnik_sudno_more_nebo_1920x1200_(www.GdeFon.ru).jpg"/>
          <p:cNvPicPr/>
          <p:nvPr/>
        </p:nvPicPr>
        <p:blipFill>
          <a:blip r:embed="rId1"/>
          <a:stretch/>
        </p:blipFill>
        <p:spPr>
          <a:xfrm>
            <a:off x="428760" y="1000080"/>
            <a:ext cx="8215200" cy="532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5964"/>
                </a:solidFill>
                <a:latin typeface="Calibri"/>
              </a:rPr>
              <a:t>остров Попугае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87026"/>
                </a:solidFill>
                <a:latin typeface="Constantia"/>
              </a:rPr>
              <a:t>38*4*8 =3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87026"/>
                </a:solidFill>
                <a:latin typeface="Constantia"/>
              </a:rPr>
              <a:t>72*6*40=38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87026"/>
                </a:solidFill>
                <a:latin typeface="Constantia"/>
              </a:rPr>
              <a:t>63*7*23=93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F:\марина\марина\Shhetinogolovyy-popugay-ili-Grifovyy-popugay-Psittrichas-fulgidus.jpg"/>
          <p:cNvPicPr/>
          <p:nvPr/>
        </p:nvPicPr>
        <p:blipFill>
          <a:blip r:embed="rId1"/>
          <a:stretch/>
        </p:blipFill>
        <p:spPr>
          <a:xfrm>
            <a:off x="3643200" y="1000080"/>
            <a:ext cx="4643640" cy="521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остров Обезьян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7026"/>
                </a:solidFill>
                <a:latin typeface="Constantia"/>
              </a:rPr>
              <a:t>74-50=16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7026"/>
                </a:solidFill>
                <a:latin typeface="Constantia"/>
              </a:rPr>
              <a:t>70-54=24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4" descr="F:\марина\марина\e-groont.1_0_538e9_8e2a886e_L.jpg"/>
          <p:cNvPicPr/>
          <p:nvPr/>
        </p:nvPicPr>
        <p:blipFill>
          <a:blip r:embed="rId1"/>
          <a:stretch/>
        </p:blipFill>
        <p:spPr>
          <a:xfrm>
            <a:off x="3286080" y="1571760"/>
            <a:ext cx="5326200" cy="43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27432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остров Слон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7026"/>
                </a:solidFill>
                <a:latin typeface="Constantia"/>
              </a:rPr>
              <a:t>80-43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7026"/>
                </a:solidFill>
                <a:latin typeface="Constantia"/>
              </a:rPr>
              <a:t>96-50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7026"/>
                </a:solidFill>
                <a:latin typeface="Constantia"/>
              </a:rPr>
              <a:t>60+15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7026"/>
                </a:solidFill>
                <a:latin typeface="Constantia"/>
              </a:rPr>
              <a:t>73+20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F:\марина\марина\310.jpg"/>
          <p:cNvPicPr/>
          <p:nvPr/>
        </p:nvPicPr>
        <p:blipFill>
          <a:blip r:embed="rId1"/>
          <a:stretch/>
        </p:blipFill>
        <p:spPr>
          <a:xfrm>
            <a:off x="3286080" y="1571760"/>
            <a:ext cx="5400720" cy="43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лонёнок все поня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4" descr="F:\марина\марина\a-small-elephant-wallpaper-1366x768.jpg"/>
          <p:cNvPicPr/>
          <p:nvPr/>
        </p:nvPicPr>
        <p:blipFill>
          <a:blip r:embed="rId1"/>
          <a:srcRect l="16972" t="0" r="16972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23" name="Picture 5" descr="F:\марина\марина\596afdbb5249ef49a9985a1f61751bcb.jpg"/>
          <p:cNvPicPr/>
          <p:nvPr/>
        </p:nvPicPr>
        <p:blipFill>
          <a:blip r:embed="rId2"/>
          <a:stretch/>
        </p:blipFill>
        <p:spPr>
          <a:xfrm>
            <a:off x="1428840" y="4714920"/>
            <a:ext cx="2214360" cy="1679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F:\марина\марина\0_a518d_9dfddc14_orig.jpg"/>
          <p:cNvPicPr/>
          <p:nvPr/>
        </p:nvPicPr>
        <p:blipFill>
          <a:blip r:embed="rId3"/>
          <a:stretch/>
        </p:blipFill>
        <p:spPr>
          <a:xfrm>
            <a:off x="357120" y="2714760"/>
            <a:ext cx="2409840" cy="180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23:35:03Z</dcterms:created>
  <dc:creator>Марина</dc:creator>
  <dc:description/>
  <dc:language>en-US</dc:language>
  <cp:lastModifiedBy>Марина</cp:lastModifiedBy>
  <dcterms:modified xsi:type="dcterms:W3CDTF">2014-03-12T01:28:54Z</dcterms:modified>
  <cp:revision>11</cp:revision>
  <dc:subject/>
  <dc:title>Тема урока</dc:title>
</cp:coreProperties>
</file>